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413D-E927-4C60-AE9A-8365BA35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E99A-4043-4E26-A519-93DDD495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87167-D7F6-4354-BD2B-93792721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13CB5-4093-4A34-9A62-AC18C124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81295-090A-4D0A-9AF4-2CCD3186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30617-F142-48FA-87A2-292BAA88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3D3D9-E1F3-4AFB-BB9C-6828D28E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2C041-A772-4814-B30B-5D0722A1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C6901-0A09-415F-A344-9A0D9C2F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C904C-D83D-4E21-82DD-F4ADCBD3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21763-8EDD-4BC8-B25F-28CBC194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8468F-321E-4385-89E8-6D0456E5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272-BEE2-4139-8DCA-20FF5EFB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BB3C7-C2C6-4F04-B116-772496DD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3E990-26BF-4336-A87C-3935003F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0A2A3-9A88-4A2C-B3FE-40E2202C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62072-9CF6-4C49-819B-28C978A1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80F43-0783-4B61-A64E-47D537B7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5E557-A2FF-45B5-997A-5F7FDD4C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6B108-A74F-4486-8DB5-4E2E3EAC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25951-11E4-416F-8F2B-E4871E26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43BFE-0B42-4096-A057-1788155B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8F75C-7809-4D3B-862C-3B9212ED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598-D409-4E0C-B1B4-ED803032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AF331-D808-4E23-AABB-FBAF089E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C7C3A-7043-46E3-938E-11941E0E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63767-D792-4A69-AC63-28D7C4C7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74F0C-DF5E-413D-BBFB-E37A3B68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FC69E-84CD-4FAB-AAD2-EF8E7DD7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E7DF5-0FD3-47F5-AA46-2CB8ED51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A3D4C-691C-47C4-B50C-A2ADA620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E2CA4-D929-4B8D-B410-DDC11CB2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7DF82-EBCA-4187-BB62-45EB7B2C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71CE7-EE93-4735-9026-FFC005D6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DDB7-521C-4717-8606-A07A2E0B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F4C87-2549-4A0C-8EB2-C7F2BCFB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5EA47-4A79-435F-9715-678CDC2B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097A3-DAD6-4529-A7E1-F8E644D4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2C942-EDC2-4988-A44D-A6741F31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FDFB6-C16B-4574-99BD-C16ED690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A7587-918E-45AC-A5A5-4D52D55B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870C8-199E-4E61-832B-7F456F69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F4E23-E01F-488A-9A1E-6E367C3B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C60C4-1B07-4D78-B2A6-81C1A624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05F67-2B26-4BE9-A549-3F60D59F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2636-5279-41A1-B49F-69FD565F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1567A-19B3-439F-8FE0-3C922124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97143-4FB7-4546-89B5-52C9AFAD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1E716-860D-46EC-8FAF-9B87B5CF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7EED3-EEB7-4745-83E6-DD680ECF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3C24A-813F-4ED3-B781-ADCAE2E6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7D2223-F81F-44A3-B60A-9FCDDFF8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F9BDC-E04C-486A-9E51-3B7ED5DE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BE24A-F170-48C5-A000-5440E00D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7BB71-C89D-4832-8FA4-948D474B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3B18B-FC1B-452B-9752-15BAC8AE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89A7-A99B-46F0-B07E-3839C90E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27D4D-AA7B-44D3-B13E-7B2C1791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2EEA71-6520-482C-905C-6937BD3F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B4870-FB34-419A-AB1E-C4800F3B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B8943-02A4-490C-83E2-0CF6AFF9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74A12-2C00-4093-95DE-2D6C2757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77EF4-FDF5-458A-9F5B-BD6AD0DD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89E66-0CB2-4F04-9085-7C5ABE04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6B9150-22E5-4C64-8293-224AE3DE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683D24-EE28-44B1-AC64-95A34C26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D0C7FB-1601-4269-B9ED-51A71988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AFBE-375F-4AFC-8E68-6882BF64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54CE5F-9FAF-4A77-8DDB-6741BE50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E6BC0B-38A4-4860-937F-E77481B2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1097BF-BB69-46B8-AA0F-C01B6777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94A3F-843D-42FC-8171-DB26F7B6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73EFA2-05B6-4E70-AB70-7A6ECF45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2B318F-5812-4222-8F53-FDD7751A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27A04B-15A4-446E-9732-ECA6D6D1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CE8FB1-5EEC-4A43-8D5A-1BC9B2A2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174CF6-C3DC-4056-8203-4ED6826F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E9D93D-4449-4C8B-B853-534352E2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8E83-45D8-4A49-86B8-50666D11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A69BF8-1E50-4828-A9B3-24E9D9F2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FFD190-43F5-4D48-8B50-D54104ED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327544-578C-417F-A3B3-3C1B156C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7B6AE4-3DC2-4191-ADAC-3073244F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5B699E-8ED9-40F2-8494-F4342C1E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D65DFA-2390-43A2-A6D7-313A627F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86ED97-F58A-4A18-9F7C-D70EA26C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35D661-2242-4B2C-BE48-8F6D9972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3FB586-4455-4BA0-805C-CF6756AC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C9F01E-C0CF-45AF-8692-D32167F4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0E3B-C9E7-4225-8A54-2A424D71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141606-47DD-4254-A642-FE7EC100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5342B-FAEA-4409-A569-58163F6F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97DB08-FEE0-464E-B2BF-BFD045A9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EA4CEB-B3F3-4687-9A91-AB9BC910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0630B9-7E76-4011-9937-B2648AFD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9A4ED5-7674-4BB0-BE5C-1C843AB6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F53154-2599-4094-A687-480E4162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AE101-578D-45EF-8B5B-68478D4D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BB89C9-CBE7-481E-B918-E1A1FE30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12E8D2-BAD0-4463-BE73-3DB49805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E2B1-E48F-444D-A8C2-D2FBA56F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A3A97-32A8-4BC8-851F-5B608E98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162E73-4C7B-42F0-93AC-D858B8FF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BE9AE9-822B-4455-B13C-A6E2B17F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4ACAE9-63EF-4726-9AF7-97B939AC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B30FF-3CAF-4EE6-8F82-D12D5299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7840C2-BC88-4295-96EE-5E1FB86F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548295-2D34-4EF2-83AF-F4277864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A47D81-3D28-4EFD-B04A-F001A14E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219B0-2C7E-4A57-BCC3-DB7EF3BB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A9AEEE-E792-468E-9515-BFBD72B6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C810-1679-4E36-9C3C-B9ADF4DF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6530-5984-4420-8E59-726C7A90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7AAE47-1B93-44DD-BC5C-8940FA20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18EA77-8B6F-4CEA-9A9A-74B337B1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75AFD3-BB5F-4988-856C-F25D0E48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A75681-39B1-4EEB-9A6D-EE4F5E9A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BDCF54-F334-4786-8F2C-E504B678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A072F6-A1C6-4ABF-BDF2-E5A8C311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06ADA6-552D-4DEE-AFD3-865C23B5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9F454D-F7FA-498B-BF65-F4871571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CD488E-B9EE-491F-A59F-B3F8E78F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6FE70E-F657-45BB-BC11-8FC1A2F6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65BA-A4EB-4289-AD2F-A62A6EAC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73D653-3AE9-4E88-8262-E3294C48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6D789B-3D30-4B45-B2FA-9D7C8A4B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7FC9A8-653B-42CB-B195-79A71F91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3020FB-CA2C-45BE-9094-0FED09D7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C8077F-ED1E-4524-9658-E20C6D33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EF8AC3-58F9-4051-8273-28F50103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83A2CE-5BD4-41A4-899F-515E5FF9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C3295F-F968-4C83-8528-01A19237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685AA3-782B-4646-A858-1469F9D5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A255FC-4879-431E-A44A-16824A4A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A054-1A87-49DA-9F41-BF896AE6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873B12-35E2-4C3E-812B-2AFB41F7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14A43D-AD7F-48FE-9320-FE0C30C5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7C84E6-3767-4388-88EA-FE6DFBA0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5471F2-E5BE-4CF8-A1B5-4650BBD6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39F55E-10DD-46FA-9996-455065B6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231315-8091-411B-B249-19A3940A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668F77-5C83-4B1E-BE63-020C1627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186C3A-1CF8-4E83-9F92-A3915677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2FD93E-E19F-4D2A-8618-957B0B9D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513493-04F0-4E5A-9615-33A8C7B0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9E8D-90A6-44F3-9139-DC8F7A99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7FA018-FC14-49B4-A0F0-32845035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E9559B-CE79-4712-A830-38101089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D0F973-3033-434E-8F69-F75410A6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C9332D-2DBE-46D2-B72C-C83CC29A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92A8E7-CB1B-43F9-8376-818ED1AE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E01710-BDE6-49EA-AA5E-C7EFC614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F53977-E04C-498C-90E6-32FEF835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414491-E367-4EA5-9E04-C98E18CF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CD55DF-1441-4A6D-BB62-DAE5A9B7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724954-7566-48FE-AA96-C42AE228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A61C-ED91-45EF-B185-1743AF37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3168A3-A2DC-4CBB-B07D-C007CAD6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1588E4-D2D0-407E-BA33-337CC324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4CDFCE-2432-418F-A4D0-C1F949B4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0313BF-7F24-4C0A-A421-28093B29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780A3E-F148-4EAA-B3B2-CF8D2A2C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026A80-2A19-4E8A-A5B0-3185D48D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B865C0-9BE0-4DC2-9827-12530ED4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E99B7D-51C3-4DB1-B672-691D361C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DEE649-CF71-4D78-87FB-8DB7C7F8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F06ED1-1E7A-4395-B1B6-CEE0E38D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2C71D-7AB9-4737-8384-41812ABD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0790C0-7611-48F7-A1FA-E9B2B7ED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B264B9-768E-49A1-9664-2AF4A7D2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0CE530-EC1C-4EDB-B212-CC9C6DB7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00104-3E04-47EF-A34B-C84372D5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3585B-DBB5-4FB3-AFE5-77AB7C99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BF538-9A6A-4FFE-969F-7A35AD78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A580D-672A-4DD6-B7C8-C105C787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EEFD-7FE0-443A-B4F6-393321D9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4DB15-79F8-4386-86FF-476E7762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80E86-E65E-4334-B4A2-E5F2A584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EEAAB-662E-417E-846D-03749BDF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EACF1-C70D-42A2-8242-3630AE37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DEC6-A63A-40D5-A68A-F6CB4713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FA305-130E-4490-BE5A-D55EAFC6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11A2D-FF5B-44BB-9A3D-42FBD6DB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9F251-A125-43E4-9C65-0E953752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984E7-DA6F-4EFD-8A4D-27E42E83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25B3E-4BB1-4633-8C5E-36E6737F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F902-1E4A-4586-97F5-7C378159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7497D-1299-44C1-B621-F9977D58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02425-B97D-4EBB-ABD5-36A73D84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8B881-5045-47EC-A047-EF03299B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EBDCA-AB48-4A42-B196-46A27C1D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F531A-9E58-4FF4-BD15-BD2688B9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65BE0-7582-4327-BC2B-0E359C4B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417DC-7814-429D-8B4C-0633D47F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84F83-03B2-46DB-B424-8D24A8FB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D1614-E0C3-4E86-BD28-B0F7AA6B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8AECC-061C-4D29-A888-3C408430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6D8-58ED-43FB-A8A8-CD5B8434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D4696-8E63-49D2-833B-D6F0FB37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72A3B-2C0D-4BE9-9E5D-1AB4D876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30990-F13C-4761-B80E-E9B951C5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2B153-FE9E-49A6-AC6A-DA4A58DE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1374C-A36E-48BB-8DD1-C1D0CCE9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7E89D-D3FF-411F-BA36-54F16F91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58EC2-5A3B-4FB8-B8BE-FA0E934F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78F4B-841D-4FB8-AB5B-FBB7C88C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8AB26-7099-47B2-BE20-6ED9BDC0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25E44-4156-4546-94CA-A20F5E1E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4F1-200B-4D47-B3DE-73701E61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62A06-4F6A-410A-916F-4F38A2B4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6A837-2A1B-4DF8-BE86-09CEA7D8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5E09C-EBCB-4F18-B9EC-712E14D1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5066C-8FA2-43F7-A918-8487D790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7769F-7C38-47B0-A9F9-1C7B1316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B31C0-5118-4B60-AFB0-B57049AE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28B31-1E59-4E39-BAE4-20CF6A0E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40A95-99DF-494D-AA16-1CBB310E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833C0-28EA-49EC-87FA-1B4007C3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DD9E6-BBCD-446F-B796-306A4EEA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E656-0C83-4BAC-B27F-87CE211A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336B1-3107-45FA-AA3D-582AC807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AEB77-BA32-461F-9993-F525A9C7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8BB0B-6E56-4032-A483-14EF56C8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B0DD8-5158-429E-AE9E-F5F327A5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4F9D3-8942-494D-91F4-4B198598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CA2DA-759C-4E5A-833C-5CC38883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DFCF8-E35D-43B9-ACA0-F091B814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B3911-2F60-4B15-86A4-1876209F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A6BCB-4DAA-495A-B162-4A315B3A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D528A-B724-487A-9C16-E4661602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FD79-C25D-4A19-AC4F-12F901C5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379DF-CB70-495D-9B2A-B7D1DFD7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077F4-022D-4286-B392-16211355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FD2C8-D9D1-4CCE-BBB3-5F2AE558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13FE1-FD9B-4DAF-9E3C-B581876A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870D8-C7DB-41DC-BB3D-50E6F2E9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0B41E-5E3A-4B50-84AA-9D13C9FD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DECF0-4AFC-408E-9BFB-CAE79887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8D325-0BB6-4D09-A31A-9A390EB4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064A0-0381-4194-B245-2EE2B716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C0990-EF9E-4529-8EB4-DEA31599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CEB-C574-4EDD-963C-0BF3E808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B17A9-1A5B-47B8-84E0-D290DFF9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86E94-DB08-4A8B-9600-9516BD02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2AA38-12EF-472E-8D01-D9125E72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0F4E4-1A61-4FA6-91D9-6FE34347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4E6D0-56BA-43AE-A72A-AEE88DD0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F714B-15B1-4031-98C0-B1EBFE51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9C68A-5049-4B8C-AE05-DE4113DB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5DF36-B552-45DE-B0EE-F0D2139B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F9D9D-4930-4EDB-AF17-DCCB0FEC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885EE-9976-4EC9-9009-8657DB36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8357-8812-461D-A7F3-58858AF6B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E1DB-C307-4DC9-8A7E-9BAE975A1C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AFCB-E8F7-453A-848A-390912E818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DD7A-ACE1-4080-9724-0C60A9B44E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9010-1D1C-4628-BFDD-DE21458525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53AA-1577-4DDE-86A8-1B4B30ADAB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FFAC-7146-4F72-BA45-8A2A284BEC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9A72-5649-4052-B940-F1D2202223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BC73-5A09-4D1B-86D0-A0F217DC68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15D4-9EC7-41D9-95AB-C5BDAB4C04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9538-EE30-453D-8BC4-CAE59A6650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3C4F-068F-4338-B472-77EFE3A00B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ACEC-3E48-4EF3-84DA-D90C17B6FA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645B-7885-4937-8990-169B999BF6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4720-4D68-4D13-A95C-545F7AB4DF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3E49-6CD1-4B43-8251-92CFE76834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A34C-927A-4D74-B7FF-5F4713464C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79A5-1E7C-46FD-9AEA-522AFA04C7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D1AF-4323-4E40-A6CF-C145F4D8F6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6DA4-4444-47AD-B814-D30E63F311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2444-7CBB-4E51-BC3C-31B62173D9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A86E-B225-4C68-8EB4-0804F7BBDA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F4B7-BC38-4054-9DB1-F24E616B87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E25C-B2FA-468F-8894-B9AE648C3C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8B3C-D0DE-4261-8CC1-3F4F640EAC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0DE0-03E6-44BE-BDBC-B392365F79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41C2-9E78-4F41-A1FA-1ED0CF269E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B5E4-E809-4AB6-A46E-441E886E4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7AF5-F012-4C3F-BF4B-0FA126F2C9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7CF8-D67D-4566-A489-CE21229FDD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FC11-43B7-4BF8-B5BD-1E7DCE891C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2AD6-60A3-4F71-98B1-FDE0E7D6C0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DF0A-B245-496E-A301-9C312E1105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61DD-0FAD-4445-BAE1-517CAEB07C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FACF-F47E-4FCB-BE03-1DEBFC5FD1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8C85-0A10-4D10-A8E3-02DB661C90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3DD5-E1DB-4766-80BC-A22B2D1A49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86D3-3EF1-4C3B-8481-58B2FF4306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BCB9-CAFE-4A7E-82D1-F69AE77449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16C6-A245-4EBF-A4C9-162FCBEE6A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685280" cy="107604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1677960" y="3825720"/>
            <a:ext cx="5324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2" name="图片 1" descr=""/>
          <p:cNvPicPr/>
          <p:nvPr/>
        </p:nvPicPr>
        <p:blipFill>
          <a:blip r:embed="rId1"/>
          <a:stretch/>
        </p:blipFill>
        <p:spPr>
          <a:xfrm>
            <a:off x="52560" y="852480"/>
            <a:ext cx="9037440" cy="51530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2"/>
          <a:stretch/>
        </p:blipFill>
        <p:spPr>
          <a:xfrm>
            <a:off x="1116000" y="1700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3"/>
          <a:stretch/>
        </p:blipFill>
        <p:spPr>
          <a:xfrm>
            <a:off x="1187280" y="2421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4"/>
          <a:stretch/>
        </p:blipFill>
        <p:spPr>
          <a:xfrm>
            <a:off x="1116000" y="3141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5"/>
          <a:stretch/>
        </p:blipFill>
        <p:spPr>
          <a:xfrm>
            <a:off x="1042920" y="3933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6"/>
          <a:stretch/>
        </p:blipFill>
        <p:spPr>
          <a:xfrm>
            <a:off x="1187280" y="4653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0" name="图片 1" descr=""/>
          <p:cNvPicPr/>
          <p:nvPr/>
        </p:nvPicPr>
        <p:blipFill>
          <a:blip r:embed="rId1"/>
          <a:stretch/>
        </p:blipFill>
        <p:spPr>
          <a:xfrm>
            <a:off x="500040" y="1457280"/>
            <a:ext cx="81424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338040" y="914400"/>
            <a:ext cx="8466120" cy="50292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476360" y="1989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1332000" y="278136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332000" y="364500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1332000" y="443700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1332000" y="522936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2" descr=""/>
          <p:cNvPicPr/>
          <p:nvPr/>
        </p:nvPicPr>
        <p:blipFill>
          <a:blip r:embed="rId1"/>
          <a:stretch/>
        </p:blipFill>
        <p:spPr>
          <a:xfrm>
            <a:off x="1409760" y="1047600"/>
            <a:ext cx="6324480" cy="47628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2484360" y="21160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2411280" y="2924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2411280" y="3716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2484360" y="4508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2484360" y="5300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490680" y="1585800"/>
            <a:ext cx="816120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157320" y="870120"/>
            <a:ext cx="8827920" cy="55814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1332000" y="1916280"/>
            <a:ext cx="576000" cy="4489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1187280" y="4292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700200" y="804960"/>
            <a:ext cx="7742160" cy="52480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1042920" y="3284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图片 1" descr=""/>
          <p:cNvPicPr/>
          <p:nvPr/>
        </p:nvPicPr>
        <p:blipFill>
          <a:blip r:embed="rId1"/>
          <a:stretch/>
        </p:blipFill>
        <p:spPr>
          <a:xfrm>
            <a:off x="485640" y="1962000"/>
            <a:ext cx="8172720" cy="29340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826920" y="2043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57240" y="1133640"/>
            <a:ext cx="9029520" cy="45907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2627280" y="4638600"/>
            <a:ext cx="4969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6" name="图片 1" descr=""/>
          <p:cNvPicPr/>
          <p:nvPr/>
        </p:nvPicPr>
        <p:blipFill>
          <a:blip r:embed="rId1"/>
          <a:stretch/>
        </p:blipFill>
        <p:spPr>
          <a:xfrm>
            <a:off x="547560" y="888840"/>
            <a:ext cx="8047080" cy="58388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2411280" y="2795760"/>
            <a:ext cx="5689800" cy="4489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2268360" y="5516640"/>
            <a:ext cx="6407280" cy="449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2166840" y="6222960"/>
            <a:ext cx="6407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6:06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